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49B7-2D74-4556-AEAB-C25EE28E52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3FF8-A6FF-4E1A-956C-3D8D0D6D17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343080" y="4181400"/>
            <a:ext cx="6286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rente a esta crítica, desarrolla metodologías basadas en el uso de MUESTRAS CRITERIO  y de IDENTIFICACIÓN DE PENSAMIENTOS Y CONDUCTAS OPERANTES RELACIONADAS CAUSALEMENTE A RESULTADOS EXISTOSOS, en basea observación en terreno y entrevis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us investigaciones aplicadas originalmente al campo de la Diplomacia noerteamericana demuestran cómo ciertas habilidades específicas descubiertas (Ejemplo: sensibilidad interpersonal intercultural, valoración positiva de los demás y rapidez de aprendizaje de redesmpolítcas de influencia) son capaces de predecir el desempeño futuro de jóvenes diplomáticos, cosa que no permitien test estandarizados de conocimiento e intelig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 raíz de investigaciones posteriores desarrolla el enfoque de EVALUACIÓN DE COMPETENCIAS LABORALES, postulando el concepto de COMPETENCIA.  Este enfoque ha sido desarrollado posteriormente por Boyatzis (1981, 1982), Spencer &amp; Spencer (199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CEPTO EXPL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os autores plantean que toda competencia tiene 5 DIMENSIONES POSIBLES, CENTRALES (MOTIVOS, RASGOS, AUTIMAGEN) o PERIFÉRICAS (CONOCIMIENTOS Y DESTREZAS).  Además, que cada una de ellas siempre integra algún tipo de INTENCIÓN (3 opciones), con una ACCIÓN (2 opciones) que se relaciona causalmente a un RESULTADO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9F4-F180-4BEF-AE64-B5CF790D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2866-4461-4809-9467-FDA0C945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AD4F-0031-48E4-86ED-C713A8F2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2AD-FFF6-47FE-A27E-1BEAB65B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DC8-AD63-480A-82AF-9D1AC633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656-B0D3-4D43-9B85-9312597C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6C8-A72C-4137-BB41-1F161FC5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BE3F-53F1-4941-8FC3-9ADD061A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18C3-3342-45C6-A779-94E7DECC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D01-1394-484E-A193-66E7F2D4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04E-B62D-4D80-87BD-77C6DC38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7A46-13E1-4C1F-BE0A-981B1EEB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814B-0815-42EB-A443-82099AF2D340}" type="datetime">
              <a:rPr b="1" lang="es-ES" sz="1400" spc="-1" strike="noStrike">
                <a:solidFill>
                  <a:srgbClr val="000000"/>
                </a:solidFill>
                <a:latin typeface="Industrial736 B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Industrial736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098B-764A-422E-B5A1-A682F2A8FC27}" type="slidenum">
              <a:rPr b="1" lang="en-US" sz="1400" spc="-1" strike="noStrike">
                <a:solidFill>
                  <a:srgbClr val="000000"/>
                </a:solidFill>
                <a:latin typeface="Industrial736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RECURSOS HUMANO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Topicos de Gestión Pública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Profesor: Mario Marce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MGPP-UCH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Segundo semestre 2005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17704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Industrial736 BT"/>
              </a:rPr>
              <a:t>Una COMPETENCIA es una Característica Subyacente de un individuo que está Relacionada Causalmente a un Criterio de Referencia de Desempeño Superior en un trabajo o situación (Spencer &amp; Spencer, 1993).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9" name=""/>
          <p:cNvSpPr/>
          <p:nvPr/>
        </p:nvSpPr>
        <p:spPr>
          <a:xfrm>
            <a:off x="6837840" y="3581280"/>
            <a:ext cx="1653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Resultado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403680" y="4141800"/>
            <a:ext cx="2417040" cy="831600"/>
            <a:chOff x="6403680" y="4141800"/>
            <a:chExt cx="2417040" cy="831600"/>
          </a:xfrm>
        </p:grpSpPr>
        <p:sp>
          <p:nvSpPr>
            <p:cNvPr id="121" name=""/>
            <p:cNvSpPr/>
            <p:nvPr/>
          </p:nvSpPr>
          <p:spPr>
            <a:xfrm>
              <a:off x="6435720" y="4141800"/>
              <a:ext cx="229392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10320" y="4200480"/>
              <a:ext cx="1964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Rendimiento 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3680" y="4511520"/>
              <a:ext cx="241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l puesto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612080" y="3581280"/>
            <a:ext cx="155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Intenció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371600" y="4141800"/>
            <a:ext cx="2046240" cy="831600"/>
            <a:chOff x="1371600" y="4141800"/>
            <a:chExt cx="2046240" cy="831600"/>
          </a:xfrm>
        </p:grpSpPr>
        <p:sp>
          <p:nvSpPr>
            <p:cNvPr id="126" name=""/>
            <p:cNvSpPr/>
            <p:nvPr/>
          </p:nvSpPr>
          <p:spPr>
            <a:xfrm>
              <a:off x="1371600" y="4141800"/>
              <a:ext cx="196560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65560" y="4221000"/>
              <a:ext cx="1952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aracterístic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90120" y="4573440"/>
              <a:ext cx="1456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erson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530360" y="5073480"/>
            <a:ext cx="100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Mo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31440" y="5405400"/>
            <a:ext cx="96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Ra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30000" y="5734080"/>
            <a:ext cx="1894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Autoconce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39800" y="3581280"/>
            <a:ext cx="1271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Acció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895560" y="4121280"/>
            <a:ext cx="1965240" cy="831600"/>
            <a:chOff x="3895560" y="4121280"/>
            <a:chExt cx="1965240" cy="831600"/>
          </a:xfrm>
        </p:grpSpPr>
        <p:sp>
          <p:nvSpPr>
            <p:cNvPr id="134" name=""/>
            <p:cNvSpPr/>
            <p:nvPr/>
          </p:nvSpPr>
          <p:spPr>
            <a:xfrm>
              <a:off x="3895560" y="4121280"/>
              <a:ext cx="196524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37920" y="434484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onduc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807000" y="5451480"/>
            <a:ext cx="187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Cono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5920" y="5073480"/>
            <a:ext cx="1245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Dest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84720" y="4344840"/>
            <a:ext cx="495000" cy="347760"/>
          </a:xfrm>
          <a:prstGeom prst="rightArrow">
            <a:avLst>
              <a:gd name="adj1" fmla="val 50000"/>
              <a:gd name="adj2" fmla="val 7117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99320" y="4370400"/>
            <a:ext cx="495000" cy="347760"/>
          </a:xfrm>
          <a:prstGeom prst="rightArrow">
            <a:avLst>
              <a:gd name="adj1" fmla="val 50000"/>
              <a:gd name="adj2" fmla="val 7117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340320" y="5181480"/>
            <a:ext cx="2450880" cy="777960"/>
            <a:chOff x="6340320" y="5181480"/>
            <a:chExt cx="2450880" cy="777960"/>
          </a:xfrm>
        </p:grpSpPr>
        <p:grpSp>
          <p:nvGrpSpPr>
            <p:cNvPr id="141" name=""/>
            <p:cNvGrpSpPr/>
            <p:nvPr/>
          </p:nvGrpSpPr>
          <p:grpSpPr>
            <a:xfrm>
              <a:off x="6557400" y="5261040"/>
              <a:ext cx="2124720" cy="647640"/>
              <a:chOff x="6557400" y="5261040"/>
              <a:chExt cx="2124720" cy="647640"/>
            </a:xfrm>
          </p:grpSpPr>
          <p:sp>
            <p:nvSpPr>
              <p:cNvPr id="142" name=""/>
              <p:cNvSpPr/>
              <p:nvPr/>
            </p:nvSpPr>
            <p:spPr>
              <a:xfrm>
                <a:off x="6800760" y="5261040"/>
                <a:ext cx="1641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80"/>
                    </a:solidFill>
                    <a:latin typeface="Arial"/>
                  </a:rPr>
                  <a:t>DESEMPEÑ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557400" y="5545440"/>
                <a:ext cx="2124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80"/>
                    </a:solidFill>
                    <a:latin typeface="Arial"/>
                  </a:rPr>
                  <a:t>SOBRESALI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340320" y="5181480"/>
              <a:ext cx="2450880" cy="7779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MPETENCIAS: CONCEPTO CONDUCTU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EB19-69FA-481E-BFFD-2FCF17DF82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BD885-E32F-41D0-8532-9ED7CDBCFA5D}" type="datetime1">
              <a:rPr lang="en-US"/>
              <a:t>07/29/26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MOTIVACION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Interés individual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Ingreso monetari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alización personal/profesi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restigi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Seguridad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oder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Intereses general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ealtad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Identificación con una mis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ogro de met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CAF-3022-4FED-92FA-12F050E659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1F6F8-ED34-4F2A-AA9E-BBB18B297D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NTEXTO DE GRH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RH no opera en el vacío, la condicionan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Factores intern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Estructura organizaciona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Cultura instituciona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Factores extern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Marco jurídic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Mercado del trabaj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91C-6707-4C14-9FA0-1C9D7BCC9B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9699E-2C15-4A88-8AF5-3C58F6203C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362320" y="1752480"/>
          <a:ext cx="4800600" cy="4400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752480"/>
                    <a:ext cx="48006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8E9-B1FC-4225-92D2-707763FCA71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75DBE-8C94-41F5-8088-94B6F48D65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95280" y="1828800"/>
          <a:ext cx="6858000" cy="426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828800"/>
                    <a:ext cx="68580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11F-918E-4903-A072-885DB4E3E8D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28784-31A2-4BAE-95FB-1B6DAA9F64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3880" y="1600200"/>
          <a:ext cx="6234120" cy="4721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600200"/>
                    <a:ext cx="623412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CE2-40EB-47CB-AFF7-F65A5050F3F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EB19D-9038-4E50-8C21-9FD4E00F5A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971800" y="1886040"/>
          <a:ext cx="3639960" cy="4286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886040"/>
                    <a:ext cx="363996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16DF-EC78-40C6-8E4A-98D921964B0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40A9B-C601-4B2A-AEEF-44494BD679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l personal del sector público en procesos de ajuste fiscal tipo “consenso de Washington”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xposición y vulnerabilidad de gastos en pers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ecanismos de ajuste: despidos masivos, incentivos al retiro, no reemplazo, reubicació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onsecuencias sobre gest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B96-BAD5-4BA6-9046-3EA0478DD77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86C8C-9F51-461E-9FEF-132CCD765F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LOS FUNCIONARIOS PUBLICOS COMO GRUPO DE INTERES Y FUENTE DE CONFLICT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Realidades cotidianas: conflictos, presiones, organizacion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os empleados públicos como grupo de interé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 de “public choice”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 agente-princip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s de captura del estad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n todos estos caso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conocimiento de intereses particulares, específic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terminantes de eficacia organizacional y en rol del sector público como promotor del interés gener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E80-6C61-478D-AA01-9C27A99EDBE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77295-DFB1-4394-B37E-65E23A6213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LA FUNCION PU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Noción específica a la gestión de recursos humanos en el sector públ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osibles aproximacion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mpleo público en gener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arte del empleo público cuyas funciones están reguladas por normas de derecho público; ejercicio de potestades públicas. Relación con “núcleo estratégico” del estad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arte del empleo público regida por estatuto laboral propio, con relaciones laborales definidas por adscripción a una norma en lugar de contrat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0C3-57D4-4550-A05C-E7F06AADA7B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FA8AF-5170-4A56-B7AD-B136077942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RECURSOS HUMANOS EN EL SECTOR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tivacion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as personas como recurso organizaci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a gestión de recursos humanos como sistema integrante de la gest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l personal como componente del gasto públ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os funcionarios como grupo de interés y fuente de conflict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l servicio civil como base fundamental de la func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C93-13B0-4D81-89CA-C0AEC93C47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80CF1-6BC7-4FF5-BDD3-7539CA211E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LA FUNCION PU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 de articulación del empleo público mediante el cual determinados países garantizan existencia de administraciones públicas profesional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Administración profesional, independencia e imparcialidad en su funcionamiento; protección frente a padrinazgo y clientelismo polític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gulaciones específicas, articuladas y relacionadas con ethos instituci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558A-E0D1-4EB6-93BB-2E5556156A7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6DAD8-6A24-4850-8981-84BC8597EE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ORIGENES Y RAZON DE SER DE LOS SISTEMAS DE SERVICIO CIVI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aíses desarrollados de Europa y Norteamérica, fines del siglo XVIII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Inclusión en declaración de derechos del hombre (1789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reación del constitucionalismo moderno, asociado al orden liberal y el mercad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Institución clave de la seguridad juríd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5594-5571-45DE-B14C-94D7E87F126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59410-F806-4E3E-B357-69AA3E79A3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OMPONENTES DEL MARCO REGULATORIO DEL SERVICIO CIVI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s de acces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arrera profesi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rechos y deberes de los funcionari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dministración del Servicio Civi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230-CD23-488E-BAE9-8F30FA66B50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6E103-B649-4DFC-8096-D65386465B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ISTEMAS DE ACCES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 francé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ursos masivos, selección por tribunal y ranking riguroso en función de exámen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scuelas de funcionarios (reclutamiento de alumnos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Modelo Alemá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Selección por etap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mbina teoría y práctic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Modelo britán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clutamiento a través de órgano centralizado (Civil Service Commission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ursos abiertos, focalizados en características personal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705-BE2E-45CE-96E8-C932F127C89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35323-9348-4B05-92F6-44B9AB8256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ISTEMA DE CARRER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s de empleo (position-based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Reclutamiento para un empleo o puest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ompetencia abiert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 de carrera propiamente tal (career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structuración por niveles ascendent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mpetencia intern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282-63DF-4C30-96AA-1F22347553C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663E4-CD23-4770-B1D5-C4468C72AC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DERECHOS Y DEBERE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recho al carg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rotección frente al despido arbitrario, favoritism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pido por razones disciplinari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pido por por causes organizativas o económic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Deber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ealtad a la nación e instituciones básic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serva sobre asuntos conocidos en atención al carg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ódigos de étic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Derechos colectiv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Negociación colectiv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Huelg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AA29-0D36-4F4F-B47D-DD71F0442B3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97B98-BBE3-45F8-9310-206FB1FE44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ADMINISTRACION DEL SISTEM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s centralizados: Francia Japón, España, Gran Bretañ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s descentralizados: Estados Unidos, Suecia, Holanda, Australi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CBC-709E-4887-889D-568476CB30F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FE1EF-7E68-4E57-9387-1860F96625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PROBLEMAS DEL MODELO DE SERVICIO CIVIL Y REFORMAS RECIENTE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spectos estructural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onfrontación entre políticos y burócrat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Rigideces internas inevitabl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ontexto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risis fisc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Expansión cualitativa y cuantitativa de demanda por servicios públic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oco de reformas: flexibilidad para mejorar eficencia y capacidad de respuesta frente a ciudadaní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CD0-2DA6-4FEF-B98E-3473F749024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12CE9-8134-4682-BB21-2E24C37FB6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EMENTOS COMUNES A REFORMA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vilidad, capacidad de redespliegue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scentralización de decisiones claves en gestión de RRHH (reclutamiento, promoción, remuneración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mpliación de discrecionalidad de directiv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edición y retribución del desempeñ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lexibilización de formas contractual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ortalecimiento de control político y rendición de cuenta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0A1-BD1C-4CF2-9074-CFE62694DE3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824EC-2B48-4BF9-8EFB-088FF0EEBA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¿Y QUE PUEDEN HACER LAS ORGANIZACIONES PUBLICAS CON MAYOR AUTONOMIA EN GRH?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nfoque de competencia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 obtención de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 movilidad de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 desarrollo de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44C-8E26-4120-89AD-D433CE68543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217A4-7F41-477C-8404-3DF4B6C010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as personas como principal recurso de una organización para lograr sus fin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a eficiencia de las organizaciones está principalmente determinada por el desempeño de su pers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l personal como determinante fundamental de los costos, relación con economía, eficienci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estión de personal como herramienta al servicio de la eficacia organizativ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4380-2A63-41DF-89C3-F2BB29EFF8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E5E1F-EBEC-48AB-A37F-59546B9A2D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74880" y="343080"/>
            <a:ext cx="7269120" cy="1071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10000" y="20000"/>
                </a:lnTo>
                <a:lnTo>
                  <a:pt x="20000" y="20000"/>
                </a:lnTo>
                <a:lnTo>
                  <a:pt x="20000" y="1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00080" y="382680"/>
            <a:ext cx="724392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875"/>
              </a:lnSpc>
              <a:tabLst>
                <a:tab algn="l" pos="0"/>
                <a:tab algn="l" pos="822240"/>
                <a:tab algn="l" pos="1646280"/>
                <a:tab algn="l" pos="2468520"/>
                <a:tab algn="l" pos="3292560"/>
                <a:tab algn="l" pos="4114800"/>
                <a:tab algn="l" pos="4937040"/>
                <a:tab algn="l" pos="5761080"/>
                <a:tab algn="l" pos="658332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ERENCIAS ENTR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B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875"/>
              </a:lnSpc>
              <a:tabLst>
                <a:tab algn="l" pos="0"/>
                <a:tab algn="l" pos="822240"/>
                <a:tab algn="l" pos="1646280"/>
                <a:tab algn="l" pos="2468520"/>
                <a:tab algn="l" pos="3292560"/>
                <a:tab algn="l" pos="4114800"/>
                <a:tab algn="l" pos="4937040"/>
                <a:tab algn="l" pos="5761080"/>
                <a:tab algn="l" pos="658332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CAPACITACIÓN TR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41520" y="1862280"/>
            <a:ext cx="8178480" cy="4012560"/>
            <a:chOff x="641520" y="1862280"/>
            <a:chExt cx="8178480" cy="4012560"/>
          </a:xfrm>
        </p:grpSpPr>
        <p:sp>
          <p:nvSpPr>
            <p:cNvPr id="191" name=""/>
            <p:cNvSpPr/>
            <p:nvPr/>
          </p:nvSpPr>
          <p:spPr>
            <a:xfrm>
              <a:off x="641520" y="1862280"/>
              <a:ext cx="3282840" cy="33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NT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IEMPOS DE ENSEÑANZA IGUALES, RESULTADOS DESIG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CONECTADA DE LOS PROBLEMAS COTIDIANOS EN EL TRABAJ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DA EN LA ENSEÑANZA FORMAL EN AULA, DONDE EL PROFESOR ES  QUIEN ENSEÑ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03640" y="1862280"/>
              <a:ext cx="3816360" cy="40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OR COMPETENCIA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261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IEMPOS DE ENSEÑANZA DESIGUALES, RESULTADOS SIMI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BLEMAS EN EL TRABAJO SON EL PUNTO DE PARTIDA DE LOS 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DA EN LA PERSONA Y EN EL APRENDIZAJE INFORMAL, DONDE EL PROFESOR ES UNO DE LOS AGENTES DE ENSEÑANZA, ADEMÁS DE LOS COLEGAS ESTUDIA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706920" y="13539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.MERTENS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641520" y="1895400"/>
            <a:ext cx="8178480" cy="4052520"/>
            <a:chOff x="641520" y="1895400"/>
            <a:chExt cx="8178480" cy="4052520"/>
          </a:xfrm>
        </p:grpSpPr>
        <p:sp>
          <p:nvSpPr>
            <p:cNvPr id="195" name=""/>
            <p:cNvSpPr/>
            <p:nvPr/>
          </p:nvSpPr>
          <p:spPr>
            <a:xfrm>
              <a:off x="641520" y="1895400"/>
              <a:ext cx="3282840" cy="35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NT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DA EN LA ENSEÑANZA DE TEMAS TECNICOS; EN CASO QUE LO SOCIAL ERA PARTE DEL CURRICULUM, EL TRATAMIENTO FORMATIVO ERA SIMILAR A LO TÉCN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VALUACION AL FINAL DEL CURSO Y SIN UNA REFERENCIA TRANSPARENTE DE LOS CRITERIOS DE DESEMPEÑO Y CONOCIMIENTOS APLIC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03640" y="1895400"/>
              <a:ext cx="3816360" cy="40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OR COMPETENCIA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261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 COMPETENCIA SOCIAL Y EMOCIONAL SON PARTE MEDULAR DE LA FORMACIÓN PORQUE INCIDEN EN LA CAPACIDAD DE APRENDER; ESTO REQUIERE EL DESAPRENDIZAJE DE HÁBITOS VIEJOS DE PENSAMIENTO, SENTIMIENTOS Y DE ACCIÓ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f1f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f1f00"/>
                  </a:solidFill>
                  <a:latin typeface="Arial"/>
                </a:rPr>
                <a:t>EL DIAGNOSTICO DE NECESIDADES 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f1f00"/>
                  </a:solidFill>
                  <a:latin typeface="Arial"/>
                </a:rPr>
                <a:t>FORMACIÓN EMPIEZA CON LA EVALUACIÓN BASADA EN LAS CAPACIDADES A DESARROLLAR; LA AUTOEVALUACIÓN ES EL EJE DEL PROCESO DE ENSEÑANZA-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974880" y="343080"/>
            <a:ext cx="7269120" cy="1071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10000" y="20000"/>
                </a:lnTo>
                <a:lnTo>
                  <a:pt x="20000" y="20000"/>
                </a:lnTo>
                <a:lnTo>
                  <a:pt x="20000" y="1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00080" y="382680"/>
            <a:ext cx="724392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875"/>
              </a:lnSpc>
              <a:tabLst>
                <a:tab algn="l" pos="0"/>
                <a:tab algn="l" pos="822240"/>
                <a:tab algn="l" pos="1646280"/>
                <a:tab algn="l" pos="2468520"/>
                <a:tab algn="l" pos="3292560"/>
                <a:tab algn="l" pos="4114800"/>
                <a:tab algn="l" pos="4937040"/>
                <a:tab algn="l" pos="5761080"/>
                <a:tab algn="l" pos="658332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GUNAS DIFERENCIAS DE L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B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ON LA CAPACITACIÓN TR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06920" y="13539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.MERTENS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619200" y="219240"/>
          <a:ext cx="7908840" cy="6162480"/>
        </p:xfrm>
        <a:graphic>
          <a:graphicData uri="http://schemas.openxmlformats.org/drawingml/2006/table">
            <a:tbl>
              <a:tblPr/>
              <a:tblGrid>
                <a:gridCol w="2800440"/>
                <a:gridCol w="2560320"/>
                <a:gridCol w="2548080"/>
              </a:tblGrid>
              <a:tr h="69156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proxim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Impacto en los Resultados de la Organ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8544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ursos Ex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emas Gener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No ‘traje a la medida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ursos In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aptación pa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Grupos gran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Bajo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uto Estudio audio, video, CD, interne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ap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entrado en pens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Me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08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‘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aching’ grupos peque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ap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Estudio de Ca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Pequeños Grup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44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munidades de Prácticas (Aprendizaje en Acció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ltamente adap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Focaliz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Sesiones cortas y frec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lto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aching / Tutoría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Focalizado en situaciones concretas,  Inten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Muy A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Longo: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GRH como sistema integrado de gestión, cuya finalidad básica o razón de ser es la adecuación de las personas a la estrategia de una organización para la producción de resultados acordes con las finalidades perseguidas.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3657600"/>
            <a:ext cx="144792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GESTIO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3886200"/>
            <a:ext cx="990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3962520"/>
            <a:ext cx="990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X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28954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5105520"/>
            <a:ext cx="1676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PERSO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58672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909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334120" y="4267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4097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40972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F0C-D790-471D-8CC8-E14CE18DA9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D650D-A49E-4832-89FD-EAA0FE244A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LA GESTIÓN DE RECURSOS HUMANOS COMO SISTEMA INTEGRANTE DE LA GESTIÓN PÚ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Visión tradicional: administración de personal como un conjunto de operaciones especializada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Obten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finición de funcion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valu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tribu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gulación de derech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vincul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1D01-6108-44D8-B2ED-FEAF24B4F0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3112B-676D-4F2C-A3DF-06D0309CBB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UBSISTEMAS DE LA GRH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838080" y="1066680"/>
            <a:ext cx="7504200" cy="5046840"/>
            <a:chOff x="838080" y="1066680"/>
            <a:chExt cx="7504200" cy="5046840"/>
          </a:xfrm>
        </p:grpSpPr>
        <p:grpSp>
          <p:nvGrpSpPr>
            <p:cNvPr id="75" name=""/>
            <p:cNvGrpSpPr/>
            <p:nvPr/>
          </p:nvGrpSpPr>
          <p:grpSpPr>
            <a:xfrm>
              <a:off x="842400" y="1070640"/>
              <a:ext cx="7494840" cy="5037840"/>
              <a:chOff x="842400" y="1070640"/>
              <a:chExt cx="7494840" cy="503784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842400" y="1070640"/>
                <a:ext cx="7494840" cy="1055880"/>
                <a:chOff x="842400" y="1070640"/>
                <a:chExt cx="7494840" cy="1055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885240" y="1070640"/>
                  <a:ext cx="7408440" cy="105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NIFIC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42400" y="1070640"/>
                  <a:ext cx="7494840" cy="105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842400" y="2126520"/>
                <a:ext cx="2000520" cy="2601000"/>
                <a:chOff x="842400" y="2126520"/>
                <a:chExt cx="2000520" cy="26010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885240" y="2126520"/>
                  <a:ext cx="191412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ganización del trabaj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iseño de puest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finición de perfil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42400" y="2126520"/>
                  <a:ext cx="200052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842920" y="2126520"/>
                <a:ext cx="1756080" cy="2601000"/>
                <a:chOff x="2842920" y="2126520"/>
                <a:chExt cx="1756080" cy="26010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886120" y="2126520"/>
                  <a:ext cx="166932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emple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ncorpor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ovilida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svincul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842920" y="2126520"/>
                  <a:ext cx="175608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599000" y="2126520"/>
                <a:ext cx="1675080" cy="2601000"/>
                <a:chOff x="4599000" y="2126520"/>
                <a:chExt cx="1675080" cy="26010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641840" y="2126520"/>
                  <a:ext cx="158868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lanific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Evalu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99000" y="2126520"/>
                  <a:ext cx="167508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274440" y="2126520"/>
                <a:ext cx="2062440" cy="1164600"/>
                <a:chOff x="6274440" y="2126520"/>
                <a:chExt cx="2062440" cy="11646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317640" y="2126520"/>
                  <a:ext cx="1975680" cy="11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 la compens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tribución monet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tribución no monet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274440" y="2126520"/>
                  <a:ext cx="2062440" cy="11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274440" y="3291480"/>
                <a:ext cx="2062440" cy="1436040"/>
                <a:chOff x="6274440" y="3291480"/>
                <a:chExt cx="2062440" cy="14360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6317640" y="3291480"/>
                  <a:ext cx="1975680" cy="14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desarroll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moción y carrer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pacit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prendizaje individual y colectiv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274440" y="3291480"/>
                  <a:ext cx="2062440" cy="143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842400" y="4727520"/>
                <a:ext cx="7494840" cy="1380960"/>
                <a:chOff x="842400" y="4727520"/>
                <a:chExt cx="7494840" cy="13809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885240" y="4727520"/>
                  <a:ext cx="7408440" cy="13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 las relaciones humanas y soc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lima laboral                                   Relaciones Laborales                       Políticas soc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42400" y="4727520"/>
                  <a:ext cx="7494840" cy="138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" name=""/>
            <p:cNvSpPr/>
            <p:nvPr/>
          </p:nvSpPr>
          <p:spPr>
            <a:xfrm>
              <a:off x="838080" y="1066680"/>
              <a:ext cx="7504200" cy="5046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752480" y="16765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10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05740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7339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1008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3915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2C4C-9A96-4C8F-B1EB-1F03CDA252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58585-8C6A-458C-9D0D-2E5C7DDE03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nfoque de gestión de recursos humanos (GRH)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ficacia de la organización como objetiv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otencial humano como base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epción estratégica: proactiva, personas como activos potenciales que deben ser aprovechados para el logro de objetivos de la organiz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Visión integrada: estructura, cultura organizativa, competencias. En foque en motivación de empleados, reconociendo sus interes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GRH como función directiv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FB8-E9BE-4BE1-A6FA-14243AA8B0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6101A-7AFF-4F0C-923B-07E921872C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RH busca aplicar recursos humanos al logro de los fines de la organizació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ara ello se requiere actuar sobre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as competencias del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a motivación del personal para aplicar sus competencias a los fines de la organiz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99C-0E44-499A-9613-659E054B77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8B0BD-1654-458D-A816-8E3AD1DF45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520" y="14126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Industrial736 BT"/>
              </a:rPr>
              <a:t>Conductas laborales necesarias para hacer un trabajo efectivo (Woodruffe, 1993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Industrial736 BT"/>
              </a:rPr>
              <a:t>Capacidad real del individuo para dominar el conjunto de tareas que configuran la función en concreto (Reis, 1994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Industrial736 BT"/>
              </a:rPr>
              <a:t>Todo atributo personal relacionado al trabajo, conocimiento, experiencia, habilidades y valores que llevan a una persona a desempeñarse bien en su trabajo (Roberts, 1997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Industrial736 BT"/>
              </a:rPr>
              <a:t>Repertorios de comportamientos observables que algunas personas dominan mejor que otras y que los hacen eficaces en una situación determinada (Levy-Leboyer, 1997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apacidad real para lograr un objetivo o resultado en un contexto dado (Mertens, 1996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MPETENCIA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DC7-E0AF-429F-975E-E8A752CFC3F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69D87-7359-4888-A585-9C3613964F38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3:21:32Z</dcterms:created>
  <dc:creator>mmc</dc:creator>
  <dc:description/>
  <dc:language>en-US</dc:language>
  <cp:lastModifiedBy>mmc</cp:lastModifiedBy>
  <dcterms:modified xsi:type="dcterms:W3CDTF">2005-09-23T14:13:17Z</dcterms:modified>
  <cp:revision>5</cp:revision>
  <dc:subject/>
  <dc:title>RECURSOS HUMANOS</dc:title>
</cp:coreProperties>
</file>